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6AF-4D27-487F-A5A0-BE5314C2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6D4-A1F6-4C20-BD31-EDBB288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31D-3CCD-4460-BCA9-E632BA6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F0F-14C4-44CB-877F-2E53DF3C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0A20-731D-4DB0-B781-A63E3063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8CE4-451A-4D08-8D95-CD3E305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0DC-A78A-40B7-B338-2C6301C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746A-8955-4AE5-9498-C3AEEE0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5622-7080-4B3C-B8D2-85C2952F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E3D-D21C-4972-9319-312AF63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3FB0-F1EC-440A-B32D-9D3B5B3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AF0-090B-4EEA-8B3C-B421CBF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92D-FA8B-4FD3-9147-85040D3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31C-3B3B-4353-96D9-B0FD04B0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0752-DC0C-4B50-8E6C-306EC6B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DF5A-5A25-4C62-A682-17F7B083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C6F-207E-41B6-8999-0C6C74C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EB8-3B80-4BB6-90AA-57DAC1CA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36F-0648-4C70-AE81-A1DFDBEE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CE8-4CF0-4A04-B2AC-AF497117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D0B-96FD-4A15-B1AC-9B77B9C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64E-B99C-49B4-BFCE-A46FE9E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45C-9E61-4034-B0D7-7BD7C544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BFC-0009-4E55-9325-5C3D847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71AC-9F2F-437F-96F2-5F02801E18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852-7B48-42CF-8FF4-0180C1929E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bskids.org/cyberchase/games/equivalentfractions/" TargetMode="External"/><Relationship Id="rId2" Type="http://schemas.openxmlformats.org/officeDocument/2006/relationships/hyperlink" Target="http://pbskids.org/cyberchase/games/equivalentfractions/" TargetMode="External"/><Relationship Id="rId3" Type="http://schemas.openxmlformats.org/officeDocument/2006/relationships/hyperlink" Target="http://pbskids.org/cyberchase/games/equivalentfraction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pener:  Complete the chart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1600200"/>
          <a:ext cx="6096240" cy="4648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14800" y="2209680"/>
          <a:ext cx="3794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3794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91120" y="3809880"/>
          <a:ext cx="3380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09880"/>
                    <a:ext cx="3380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91120" y="5410080"/>
          <a:ext cx="293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5410080"/>
                    <a:ext cx="293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5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omparing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o compare fractions and decimals, alone or mixed together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36, 547, 548, 5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lnSpc>
                <a:spcPct val="90000"/>
              </a:lnSpc>
              <a:spcBef>
                <a:spcPts val="700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505320" y="403848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e order numbers, our eyes move from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 we go from the 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How will this change wit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en comparing with fractions, we’ll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, but we must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fir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426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0.43,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81280" y="3352680"/>
          <a:ext cx="53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334120" y="3429000"/>
          <a:ext cx="45540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429000"/>
                    <a:ext cx="4554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590920"/>
          <a:ext cx="3823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3823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971800" y="2666880"/>
          <a:ext cx="5302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666880"/>
                    <a:ext cx="53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371600" y="4876920"/>
          <a:ext cx="45396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876920"/>
                    <a:ext cx="45396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819520" y="4952880"/>
          <a:ext cx="32364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952880"/>
                    <a:ext cx="32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5334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-30240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you’re building a tree house, your uncle tells you that all fractions with a 4 in the numerator are “basically all the same”.  Is this true?  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0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3809880"/>
          <a:ext cx="752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543800" y="3429000"/>
          <a:ext cx="1150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429000"/>
                    <a:ext cx="1150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375160" y="3809880"/>
          <a:ext cx="511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5160" y="3809880"/>
                    <a:ext cx="511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809880" y="4114800"/>
          <a:ext cx="7970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114800"/>
                    <a:ext cx="797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438280" y="4191120"/>
          <a:ext cx="4431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191120"/>
                    <a:ext cx="443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Equivalent Fractions Matching G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Cyberchase</a:t>
            </a:r>
            <a:r>
              <a:rPr b="0" lang="en-US" sz="2600" spc="-1" strike="noStrike" u="sng">
                <a:solidFill>
                  <a:srgbClr val="669900"/>
                </a:solidFill>
                <a:uFillTx/>
                <a:latin typeface="Arial"/>
                <a:hlinkClick r:id="rId3"/>
              </a:rPr>
              <a:t> Percent Matching G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a452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22T19:10:14Z</dcterms:modified>
  <cp:revision>53</cp:revision>
  <dc:subject/>
  <dc:title>Unit 1 – Variables and Equations </dc:title>
</cp:coreProperties>
</file>